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A47-2C75-4475-9E5A-727ADD86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1C5-93B2-4C6A-A736-434770C7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57B-01A3-4094-A800-1DB0DA4A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648-AA64-4EA3-8773-2769B512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5D3-AF71-49E9-A00C-02B82B7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B53-9244-4D0C-AEA4-D3EB716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FA6-86C5-40E4-96CE-B34C3E24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0A5-07C9-4796-BD3F-40514020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A12-8382-4B90-A5B8-080DEA0E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FA7-54BD-4BB3-8F4C-A1C4605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234-BEBE-440B-A2B8-D4B67CE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07E-BEE3-42DC-B63C-0B8EBF8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3FEB-9058-494C-A307-6F68A8E596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8:05:07Z</dcterms:created>
  <dc:creator>user</dc:creator>
  <dc:description/>
  <dc:language>en-US</dc:language>
  <cp:lastModifiedBy>ifp</cp:lastModifiedBy>
  <dcterms:modified xsi:type="dcterms:W3CDTF">2008-09-29T09:39:34Z</dcterms:modified>
  <cp:revision>106</cp:revision>
  <dc:subject/>
  <dc:title>Folie 1</dc:title>
</cp:coreProperties>
</file>