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63E-042D-4647-B9DB-B4AB0528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5DB-6BF2-44A1-8DEB-A0D7E86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C4C-2ED8-4828-B5AC-650659B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E00-1CAB-4570-9884-BC03FA0A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08B-5B9E-4CE3-9322-B551D929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154-8CA3-4D66-BC22-A11B6E0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712-D27B-41B9-8152-8EBB0A2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BC9-6F14-4269-9177-161CB20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E86-EECD-4577-BBDA-F1CFB2D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2B7-3196-497D-B2F2-84D9933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76F-F84A-44FC-9A63-5243C7C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709-D7FB-4E71-A5AE-246E42C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9E1C-2947-40E8-A847-C6F8D693DA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8:05:07Z</dcterms:created>
  <dc:creator>user</dc:creator>
  <dc:description/>
  <dc:language>en-US</dc:language>
  <cp:lastModifiedBy>Peter Peyk</cp:lastModifiedBy>
  <dcterms:modified xsi:type="dcterms:W3CDTF">2019-09-23T07:25:26Z</dcterms:modified>
  <cp:revision>107</cp:revision>
  <dc:subject/>
  <dc:title>Folie 1</dc:title>
</cp:coreProperties>
</file>