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1976-4A09-4BA6-9FC3-B888B6674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23F6-C4E7-4044-8E4A-5726987A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E287-49BC-4FAD-9E7F-401B43D6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26B3-946C-4232-8491-23EAAFE29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00AC-5337-4FD4-9293-06D90783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D4F3-074D-49D2-BDFF-5097127C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36C2-747A-42E1-BFB2-C89A8B9F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66A9-73CC-4E09-8C92-626E21DF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870A-2519-44B6-AF39-67F34397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F166-6239-44B6-9EE2-3D265D25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2D86-D318-4D24-A8FB-61391CD2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E074-94DA-4531-8C9E-80133DF6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BA1C-F8EF-4826-A3A8-D12DB68C50B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08:05:07Z</dcterms:created>
  <dc:creator>user</dc:creator>
  <dc:description/>
  <dc:language>en-US</dc:language>
  <cp:lastModifiedBy>Peter Peyk</cp:lastModifiedBy>
  <dcterms:modified xsi:type="dcterms:W3CDTF">2019-09-23T07:25:26Z</dcterms:modified>
  <cp:revision>107</cp:revision>
  <dc:subject/>
  <dc:title>Folie 1</dc:title>
</cp:coreProperties>
</file>