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5B5B-AC59-420D-87DE-A088C781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F08C-4BEF-4D01-924F-45E4D63B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E45D-1D7E-4302-BA7C-ADFBFA89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941-4B71-4452-B6E8-3DB9EF7B2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840D-022E-421E-A6EE-18780F50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D8B-6C07-42B6-91E1-1ADCAEA1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CF60-9869-45D9-8738-7B65A926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ACE4-2B33-4B7A-BB7D-D93A3DBB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67B-DDDC-4063-BFCE-1FA69E6D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7915-57B3-4FE0-A90F-238372A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BA8-8CA9-45A4-8F1F-DC06AE5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0A8E-6B82-454C-9238-84B05BF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E2FA-6BAF-4A22-8810-335D29F885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08:05:07Z</dcterms:created>
  <dc:creator>user</dc:creator>
  <dc:description/>
  <dc:language>en-US</dc:language>
  <cp:lastModifiedBy>Peter Peyk</cp:lastModifiedBy>
  <dcterms:modified xsi:type="dcterms:W3CDTF">2019-09-23T07:25:26Z</dcterms:modified>
  <cp:revision>107</cp:revision>
  <dc:subject/>
  <dc:title>Folie 1</dc:title>
</cp:coreProperties>
</file>